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A41F-899F-4F5D-9906-C0D5D37C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8927-AF97-4A10-8F55-FBF0188D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BB75-7B89-4E1F-826B-CD9EFF4C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7528-DD83-4523-A4C7-F6EFCDD8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AD60-5E75-4C66-AA17-155C99F5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41A6-68D7-471C-8F09-8A09B1E2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ADBD-25E6-4D22-B7C1-A53E691C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1815-7838-4BA3-ABB2-92CE2DF6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4883-D47F-493D-A816-939624E4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84A0-4FDA-4261-8751-EAC97DD9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4D39-CFF4-4F81-8767-0225FFDA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3BDA-07D2-4226-B77F-CBDAFFBA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3CB3-2A35-4F46-93F8-084A67E5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D8AA-F07A-4F82-A467-98FA8F4A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93C9-879B-4AB7-A9C5-6EA8E43D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6FEF-5338-4C05-A1C9-99DAA2FA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1A13-F706-44AE-8BA0-EA2E2591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EEA7-0C2D-4262-A16A-068C0962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9305-317C-4EE9-B1C5-A6E6B30F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5EE6-284C-4F97-95C3-BC1A9F13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D68F-028C-4363-B3FB-109F11ED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1A69-B44A-4C80-A81C-0252841E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763-E946-473E-A5A5-1DE2FD3C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05B0-24C6-4C13-8F38-7E8AB1E9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6A4E-3309-419B-9DB9-C7D30F3901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4074-5EAB-4E7C-89DD-A024526150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Junior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pt. 1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O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Verb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tudy guide for tes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est tomorrow!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en neefertiti and her husband kink amenhotep who came to power in egypt in 1367. They built the city of akhetaton in honer of the egyptian sun god at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pe:raisin::plum:_______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nd:Seek::Flail:_____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udy gu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y work with a partn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how me when finished for your cred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01:32:00Z</dcterms:created>
  <dc:creator>Angie</dc:creator>
  <dc:description/>
  <dc:language>en-US</dc:language>
  <cp:lastModifiedBy>Angie</cp:lastModifiedBy>
  <dcterms:modified xsi:type="dcterms:W3CDTF">2009-09-14T01:33:18Z</dcterms:modified>
  <cp:revision>1</cp:revision>
  <dc:subject/>
  <dc:title>Juniors</dc:title>
</cp:coreProperties>
</file>